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C492-74B3-430E-AB80-22CD82BC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43F4-6257-491F-ABEE-E078E5E9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D018-2FCE-493D-A3FA-8493A9B3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0525-A4A3-4FC2-96EC-FBF5342B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85BC-A367-4A85-AC67-B2729B32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7817-F2BF-4F0C-9201-80D87120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037E-65EE-4164-B242-876B67C7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5A93-787A-4F92-9E71-8FF67AED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25E8-8185-4D06-B905-9CC2CD84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CA38-74AA-4AC2-8604-EE88D727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E7AD-8D64-49DD-A84F-F05CFCE9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147D-2EAE-4B71-84CE-CDC6186B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101B-F982-440F-BE50-8DC1338F536B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Božić 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BOŽIĆ UZ GLAZB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00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rakteristike božićnih pjesama su njihov veseo slavonski ritam, govor o pastirima, njihovu poklonu malome Isusu te mogućnost izvođenja na narodnim glazbal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5280" y="549000"/>
            <a:ext cx="82202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vaka zajednica ili narod ima svoje običaje koje njeguju i čuvaju. Jedan od tih običaja je koledanje ili čestitanje Božića u Slavoniji koji je do danas ostao sačuvan u nekim dijelovima Slavoni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Voćinu je do danas ostao prisutan običaj Kriskindla i Admaša-djeca za badnju večer odjeveni u prigodne kostime obilaze kuće i mještanima čestitaju Božić. Za ovu prigodu pjevaju pjesme O slavna Betlemska ti si štalica i Dobra vam večer gospodo. Ovaj običaj je nekada postojao i u drugim dijelovima Slatinskog kra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467080" y="549360"/>
            <a:ext cx="6240240" cy="415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TekstniOkvir 4"/>
          <p:cNvSpPr/>
          <p:nvPr/>
        </p:nvSpPr>
        <p:spPr>
          <a:xfrm>
            <a:off x="395280" y="1341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LED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Raduj te se narodi45.mp3" descr=""/>
          <p:cNvPicPr/>
          <p:nvPr/>
        </p:nvPicPr>
        <p:blipFill>
          <a:blip r:embed="rId2"/>
          <a:stretch/>
        </p:blipFill>
        <p:spPr>
          <a:xfrm>
            <a:off x="8244000" y="501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342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24000" y="620280"/>
            <a:ext cx="8362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zapadnoj Slavoniji su prisutne i tzv. pripovjedne pjesme koje su svojevrsni pučki katekizam koji prepričava događaje iz Isusova života, a među njima i o Isusovu rođenj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 Betleme, Betleme(Davor i Orubi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salašu kraj Betlema(Slavoni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inoć stigla tužna majka(Gornji Lipov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94920" y="549000"/>
            <a:ext cx="830268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jpoznatije božićne pjesme iz različitih krajeva Hrvats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vim na zeml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dujte se nar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eselje ti navješćuj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to vrijeme godiš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rodi nam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U to vrijeme 45.mp3" descr=""/>
          <p:cNvPicPr/>
          <p:nvPr/>
        </p:nvPicPr>
        <p:blipFill>
          <a:blip r:embed="rId1"/>
          <a:stretch/>
        </p:blipFill>
        <p:spPr>
          <a:xfrm>
            <a:off x="4602240" y="3397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618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4346640" y="22320"/>
            <a:ext cx="4797360" cy="3754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0" y="-3240"/>
            <a:ext cx="4356000" cy="6835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>
            <a:off x="4362480" y="3767040"/>
            <a:ext cx="4781520" cy="3090960"/>
          </a:xfrm>
          <a:prstGeom prst="rect">
            <a:avLst/>
          </a:prstGeom>
          <a:ln w="0">
            <a:noFill/>
          </a:ln>
        </p:spPr>
      </p:pic>
      <p:pic>
        <p:nvPicPr>
          <p:cNvPr id="65" name="Veselje45.mp3" descr=""/>
          <p:cNvPicPr/>
          <p:nvPr/>
        </p:nvPicPr>
        <p:blipFill>
          <a:blip r:embed="rId4"/>
          <a:stretch/>
        </p:blipFill>
        <p:spPr>
          <a:xfrm>
            <a:off x="8388360" y="40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8222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d srca vam želimo sretan i blagoslovljen Božić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Slika 3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5653080" cy="317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" name="We Wish you a Merry Christmas - Christmas Carol.mp3" descr=""/>
          <p:cNvPicPr/>
          <p:nvPr/>
        </p:nvPicPr>
        <p:blipFill>
          <a:blip r:embed="rId2"/>
          <a:stretch/>
        </p:blipFill>
        <p:spPr>
          <a:xfrm>
            <a:off x="8120160" y="476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5700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9528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zentaciju izradili učenici osmih razreda OŠ Josipa Kozarca Slatina: Una Maravić, Leonarda Jozić, Matea Boršić, Arnella Beneš, Tea Mališ, Sara Turkalj, Nika Bubaš, Arijan Memedi i Lea Bošnj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entori: Rade Perić i Marko Brija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8147160" cy="5289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skoro će doći Spasitelj. Iščekujemo rođenje Isusa Krista, sina Božjega i pripremamo se za taj događaj koji se dogodi prije 2015. godine u Betlehemu. Za Božić se pripremamo kroz Advent tj. četiri tjedna pjevajući adventske pjesme koje su drugačijeg sadržaja i ugođ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ožić je događaj kojim se obilježava rođenje sina Božjega na sliku čovjeka u priprostoj štalici na slamici jer se i sam tako želio rodi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Najstarije-jaslice-u-hrvatskoj-660x330"/>
          <p:cNvPicPr/>
          <p:nvPr/>
        </p:nvPicPr>
        <p:blipFill>
          <a:blip r:embed="rId1"/>
          <a:stretch/>
        </p:blipFill>
        <p:spPr>
          <a:xfrm>
            <a:off x="755640" y="2492280"/>
            <a:ext cx="7561440" cy="37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ožić svake godine uz druženje i slavlje Isusa Krista uveličavaju i božićne pjesme koje u dom unose veselje, radost i duh Božića. Svaki se Hrvat sjeća Božića svog djetinjstva: to sjećanje traje i zauvijek ostaje s nam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Istraživanjima i zapisima etnomuzikologa           utvrđeno je da su pjesme nastale u raznim dijelovima Hrvatske(Slavonije, Dalmacije, Podravine, Međimurja, Zagorja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68000" y="765000"/>
            <a:ext cx="8218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ožićne pjesme sakupio je fra Marijan Jaić u orguljarniku, to je prvi hrvatski kantual s notama, dakle osim melodije za glas napisana je i orguljska pratnja. Upravo u ovom kantualu je vidljivo da je dosta pjesama nastalo u Slavonij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zervirano mjesto sadržaja 3" descr=""/>
          <p:cNvPicPr/>
          <p:nvPr/>
        </p:nvPicPr>
        <p:blipFill>
          <a:blip r:embed="rId1"/>
          <a:stretch/>
        </p:blipFill>
        <p:spPr>
          <a:xfrm>
            <a:off x="3276720" y="476280"/>
            <a:ext cx="5051160" cy="49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" name="TekstniOkvir 4"/>
          <p:cNvSpPr/>
          <p:nvPr/>
        </p:nvSpPr>
        <p:spPr>
          <a:xfrm>
            <a:off x="250920" y="1224000"/>
            <a:ext cx="302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VI HRVATSKI ORGULJAR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95280" y="907560"/>
            <a:ext cx="8291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straživanjima don Mihe Demovića nekadašnjeg regnesa chori zagrebačke katedrale utvrđeno je ova činjenica. Jaić je zapisivao na raznim župama i samostanima gdje je boravio, uglavnom među Hrvatima Šokcima, njihove napjeve za božićne pjes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240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rgulje se u većinu slavonskih crkava uvode tek sredinom 19. stoljeća. Do tada su u crkvama, osobito za vrijeme božićnih blagdana liturgijsko pjevanje pratili gajdaši ili dudaš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5984640" cy="38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30T22:26:25Z</dcterms:created>
  <dc:creator>Knjižnica</dc:creator>
  <dc:description/>
  <dc:language>en-US</dc:language>
  <cp:lastModifiedBy>sk-ppavic</cp:lastModifiedBy>
  <dcterms:modified xsi:type="dcterms:W3CDTF">2015-12-14T14:52:49Z</dcterms:modified>
  <cp:revision>16</cp:revision>
  <dc:subject/>
  <dc:title>BOŽIĆ UZ GLAZBU</dc:title>
</cp:coreProperties>
</file>